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1C34-0EAB-4BAD-B94C-54E579FAA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B26C-2490-4862-A7D6-CBE8A2FC6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8B22-8E25-440A-81E5-89141B7D3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A2B1-BB53-49A4-868B-C0D98D5B2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6736-6EFB-407A-BA2E-498A5E053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31820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4756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922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76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922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76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2692440"/>
            <a:ext cx="72025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36840" y="334080"/>
            <a:ext cx="72770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2692440"/>
            <a:ext cx="72025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756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31820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756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922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276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922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276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36840" y="334080"/>
            <a:ext cx="72770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756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3"/>
          <p:cNvSpPr/>
          <p:nvPr/>
        </p:nvSpPr>
        <p:spPr>
          <a:xfrm>
            <a:off x="465120" y="1216080"/>
            <a:ext cx="7203960" cy="4448160"/>
          </a:xfrm>
          <a:prstGeom prst="rect">
            <a:avLst/>
          </a:prstGeom>
          <a:solidFill>
            <a:srgbClr val="7a9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04"/>
          <p:cNvSpPr/>
          <p:nvPr/>
        </p:nvSpPr>
        <p:spPr>
          <a:xfrm>
            <a:off x="1473120" y="0"/>
            <a:ext cx="7670880" cy="1231920"/>
          </a:xfrm>
          <a:prstGeom prst="rect">
            <a:avLst/>
          </a:prstGeom>
          <a:solidFill>
            <a:srgbClr val="618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105"/>
          <p:cNvSpPr/>
          <p:nvPr/>
        </p:nvSpPr>
        <p:spPr>
          <a:xfrm>
            <a:off x="1447920" y="6375240"/>
            <a:ext cx="7696080" cy="0"/>
          </a:xfrm>
          <a:prstGeom prst="line">
            <a:avLst/>
          </a:prstGeom>
          <a:ln w="38160">
            <a:solidFill>
              <a:srgbClr val="005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106"/>
          <p:cNvSpPr/>
          <p:nvPr/>
        </p:nvSpPr>
        <p:spPr>
          <a:xfrm>
            <a:off x="1371600" y="6400800"/>
            <a:ext cx="3484440" cy="457200"/>
          </a:xfrm>
          <a:prstGeom prst="rect">
            <a:avLst/>
          </a:prstGeom>
          <a:solidFill>
            <a:srgbClr val="c06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l Reali • CyberSkills, Inc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2692440"/>
            <a:ext cx="720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5d2d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1473120" y="0"/>
            <a:ext cx="7670880" cy="2692440"/>
          </a:xfrm>
          <a:prstGeom prst="rect">
            <a:avLst/>
          </a:prstGeom>
          <a:solidFill>
            <a:srgbClr val="7a9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32"/>
          <p:cNvSpPr/>
          <p:nvPr/>
        </p:nvSpPr>
        <p:spPr>
          <a:xfrm>
            <a:off x="1449360" y="6527880"/>
            <a:ext cx="7696080" cy="0"/>
          </a:xfrm>
          <a:prstGeom prst="line">
            <a:avLst/>
          </a:prstGeom>
          <a:ln w="38160">
            <a:solidFill>
              <a:srgbClr val="005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2692440"/>
            <a:ext cx="720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5d2d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649440"/>
            <a:ext cx="711684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Creative Problem Solving with</a:t>
            </a:r>
            <a:br>
              <a:rPr sz="4300"/>
            </a:br>
            <a:r>
              <a:rPr b="0" lang="en-US" sz="6900" spc="-1" strike="noStrike">
                <a:solidFill>
                  <a:srgbClr val="ffffff"/>
                </a:solidFill>
                <a:latin typeface="Times New Roman"/>
              </a:rPr>
              <a:t>Six Thinking Hats</a:t>
            </a:r>
            <a:endParaRPr b="1" lang="en-US" sz="69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0240" y="3126960"/>
            <a:ext cx="4675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cf86"/>
                </a:solidFill>
                <a:latin typeface="Verdana"/>
              </a:rPr>
              <a:t>How to use Edward deBono’s</a:t>
            </a:r>
            <a:br>
              <a:rPr sz="2000"/>
            </a:br>
            <a:r>
              <a:rPr b="0" lang="en-US" sz="2000" spc="-1" strike="noStrike">
                <a:solidFill>
                  <a:srgbClr val="cacf86"/>
                </a:solidFill>
                <a:latin typeface="Verdana"/>
              </a:rPr>
              <a:t>parallel thinking in problem solving</a:t>
            </a:r>
            <a:endParaRPr b="0" lang="en-US" sz="20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91" name="Picture 11" descr="HH02541_[1]"/>
          <p:cNvPicPr/>
          <p:nvPr/>
        </p:nvPicPr>
        <p:blipFill>
          <a:blip r:embed="rId1"/>
          <a:stretch/>
        </p:blipFill>
        <p:spPr>
          <a:xfrm>
            <a:off x="493560" y="3174840"/>
            <a:ext cx="1470240" cy="10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1" descr="HH02541_[1]"/>
          <p:cNvPicPr/>
          <p:nvPr/>
        </p:nvPicPr>
        <p:blipFill>
          <a:blip r:embed="rId2"/>
          <a:stretch/>
        </p:blipFill>
        <p:spPr>
          <a:xfrm>
            <a:off x="146376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2" descr="HH02541_[1]"/>
          <p:cNvPicPr/>
          <p:nvPr/>
        </p:nvPicPr>
        <p:blipFill>
          <a:blip r:embed="rId3"/>
          <a:stretch/>
        </p:blipFill>
        <p:spPr>
          <a:xfrm>
            <a:off x="286560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3" descr="HH02541_[1]"/>
          <p:cNvPicPr/>
          <p:nvPr/>
        </p:nvPicPr>
        <p:blipFill>
          <a:blip r:embed="rId4"/>
          <a:stretch/>
        </p:blipFill>
        <p:spPr>
          <a:xfrm>
            <a:off x="4683240" y="466236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4" descr="HH02541_[1]"/>
          <p:cNvPicPr/>
          <p:nvPr/>
        </p:nvPicPr>
        <p:blipFill>
          <a:blip r:embed="rId5"/>
          <a:stretch/>
        </p:blipFill>
        <p:spPr>
          <a:xfrm>
            <a:off x="5661000" y="539100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5" descr="HH02541_[1]"/>
          <p:cNvPicPr/>
          <p:nvPr/>
        </p:nvPicPr>
        <p:blipFill>
          <a:blip r:embed="rId6"/>
          <a:stretch/>
        </p:blipFill>
        <p:spPr>
          <a:xfrm>
            <a:off x="6659640" y="392904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Using the hat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092320"/>
            <a:ext cx="7202520" cy="35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Use any hat, as often as needed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equence can be preset or evolv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ot necessary to use every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ime under each hat: generally, shor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quires discipline from each pers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While using it, stay in the idiom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dds an element of play, play alo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an be used by individuals and group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The blue hat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2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hinking about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Instructions for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he organization of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ontrol of the other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iscipline and focu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23" name="Picture 10" descr="HH02541_[1]"/>
          <p:cNvPicPr/>
          <p:nvPr/>
        </p:nvPicPr>
        <p:blipFill>
          <a:blip r:embed="rId1"/>
          <a:stretch/>
        </p:blipFill>
        <p:spPr>
          <a:xfrm>
            <a:off x="6799320" y="71136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The blue hat role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69840"/>
            <a:ext cx="7202520" cy="38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ontrol of thinking &amp; the proces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egin &amp; end session with 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acilitator, session leader’s rol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horeography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pen, sequence, close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Focus: what should we be thinking about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Asking the right question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Defining &amp; clarifying the problem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Setting the thinking task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26" name="Picture 4" descr="HH02541_[1]"/>
          <p:cNvPicPr/>
          <p:nvPr/>
        </p:nvPicPr>
        <p:blipFill>
          <a:blip r:embed="rId1"/>
          <a:stretch/>
        </p:blipFill>
        <p:spPr>
          <a:xfrm>
            <a:off x="6799320" y="71136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Open with the blue hat…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130120"/>
            <a:ext cx="7202520" cy="35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y we are her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at we are thinking abou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efinition of the situation or problem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lternative definit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at we want to achie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ere we want to end up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he background to the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 plan for the sequence of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and close with the blue hat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2692080"/>
            <a:ext cx="7202520" cy="266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at we have achieved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Outcom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esig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White Hat Think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738080"/>
            <a:ext cx="7202520" cy="38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eutral, objective informa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acts &amp; figures 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Questions: what do we know, what don’t we know, what do we need to know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Excludes opinions, hunches, judgemen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moves feelings &amp; impress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wo tiers of fac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911160" indent="-33012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Believed Fact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911160" indent="-33012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Checked Fact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33" name="Picture 48" descr="HH02541_[1]"/>
          <p:cNvPicPr/>
          <p:nvPr/>
        </p:nvPicPr>
        <p:blipFill>
          <a:blip r:embed="rId1"/>
          <a:stretch/>
        </p:blipFill>
        <p:spPr>
          <a:xfrm>
            <a:off x="6981840" y="70812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Red Hat Think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2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Emotions &amp; feeling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Hunches, intuitions, impress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oesn’t have to be logical or consisten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o justifications, reasons or basi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ll decisions are emotional in the end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36" name="Picture 44" descr="HH02541_[1]"/>
          <p:cNvPicPr/>
          <p:nvPr/>
        </p:nvPicPr>
        <p:blipFill>
          <a:blip r:embed="rId1"/>
          <a:stretch/>
        </p:blipFill>
        <p:spPr>
          <a:xfrm>
            <a:off x="6894360" y="663480"/>
            <a:ext cx="1470240" cy="10479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Yellow Hat Think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2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Positive &amp; speculati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Positive thinking, optimism, opportunity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est-case scenario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39" name="Picture 46" descr="HH02541_[1]"/>
          <p:cNvPicPr/>
          <p:nvPr/>
        </p:nvPicPr>
        <p:blipFill>
          <a:blip r:embed="rId1"/>
          <a:stretch/>
        </p:blipFill>
        <p:spPr>
          <a:xfrm>
            <a:off x="6878520" y="760320"/>
            <a:ext cx="1470240" cy="10479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Green Hat Think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2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ew ideas, concepts, percept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eliberate creation of new idea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lternatives and more alternative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ew approaches to problem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reative &amp; lateral thinking 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42" name="Picture 47" descr="HH02541_[1]"/>
          <p:cNvPicPr/>
          <p:nvPr/>
        </p:nvPicPr>
        <p:blipFill>
          <a:blip r:embed="rId1"/>
          <a:stretch/>
        </p:blipFill>
        <p:spPr>
          <a:xfrm>
            <a:off x="7121520" y="85248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Black Hat Think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66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autious and carefu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Logical negative – why it won’t work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ritical judgement, pessimistic view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eparates logical negative from emotiona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ocus on errors, evidence, conclus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Logical &amp; truthful, but not necessarily fair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45" name="Picture 49" descr="HH02541_[1]"/>
          <p:cNvPicPr/>
          <p:nvPr/>
        </p:nvPicPr>
        <p:blipFill>
          <a:blip r:embed="rId1"/>
          <a:stretch/>
        </p:blipFill>
        <p:spPr>
          <a:xfrm>
            <a:off x="6989760" y="75420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Goals of this program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178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efine parallel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Identify each of the six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Learn how to ask a good ques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pply six hats method to problem solv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Six hats summary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pic>
        <p:nvPicPr>
          <p:cNvPr id="147" name="Picture 4" descr="HH02541_[1]"/>
          <p:cNvPicPr/>
          <p:nvPr/>
        </p:nvPicPr>
        <p:blipFill>
          <a:blip r:embed="rId1"/>
          <a:stretch/>
        </p:blipFill>
        <p:spPr>
          <a:xfrm>
            <a:off x="0" y="2570040"/>
            <a:ext cx="1279440" cy="912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HH02541_[1]"/>
          <p:cNvPicPr/>
          <p:nvPr/>
        </p:nvPicPr>
        <p:blipFill>
          <a:blip r:embed="rId2"/>
          <a:stretch/>
        </p:blipFill>
        <p:spPr>
          <a:xfrm>
            <a:off x="0" y="927000"/>
            <a:ext cx="1279440" cy="912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H02541_[1]"/>
          <p:cNvPicPr/>
          <p:nvPr/>
        </p:nvPicPr>
        <p:blipFill>
          <a:blip r:embed="rId3"/>
          <a:stretch/>
        </p:blipFill>
        <p:spPr>
          <a:xfrm>
            <a:off x="0" y="3390840"/>
            <a:ext cx="1279440" cy="91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HH02541_[1]"/>
          <p:cNvPicPr/>
          <p:nvPr/>
        </p:nvPicPr>
        <p:blipFill>
          <a:blip r:embed="rId4"/>
          <a:stretch/>
        </p:blipFill>
        <p:spPr>
          <a:xfrm>
            <a:off x="0" y="4211640"/>
            <a:ext cx="1279440" cy="912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H02541_[1]"/>
          <p:cNvPicPr/>
          <p:nvPr/>
        </p:nvPicPr>
        <p:blipFill>
          <a:blip r:embed="rId5"/>
          <a:stretch/>
        </p:blipFill>
        <p:spPr>
          <a:xfrm>
            <a:off x="0" y="1749600"/>
            <a:ext cx="1279440" cy="912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HH02541_[1]"/>
          <p:cNvPicPr/>
          <p:nvPr/>
        </p:nvPicPr>
        <p:blipFill>
          <a:blip r:embed="rId6"/>
          <a:stretch/>
        </p:blipFill>
        <p:spPr>
          <a:xfrm>
            <a:off x="0" y="5032440"/>
            <a:ext cx="1279440" cy="91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0"/>
          <p:cNvSpPr/>
          <p:nvPr/>
        </p:nvSpPr>
        <p:spPr>
          <a:xfrm>
            <a:off x="1171440" y="1198440"/>
            <a:ext cx="72025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: control &amp; organization of think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ite: objective facts &amp; figur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d: emotions &amp; feeling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: hope, positive &amp; speculativ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Green: creativity, ideas &amp; lateral think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ack: cautious &amp; care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2000">
    <p:cover dir="l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Asking the right question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170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e can’t get the right answer </a:t>
            </a:r>
            <a:br>
              <a:rPr sz="2400"/>
            </a:b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if we ask the wrong ques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rucial blue hat skil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One technique: five why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65120" y="1216080"/>
            <a:ext cx="7203960" cy="4448160"/>
          </a:xfrm>
          <a:prstGeom prst="rect">
            <a:avLst/>
          </a:prstGeom>
          <a:solidFill>
            <a:srgbClr val="7a9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473120" y="1943280"/>
            <a:ext cx="7670880" cy="1473120"/>
          </a:xfrm>
          <a:prstGeom prst="rect">
            <a:avLst/>
          </a:prstGeom>
          <a:solidFill>
            <a:srgbClr val="618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1447920" y="6375240"/>
            <a:ext cx="7696080" cy="0"/>
          </a:xfrm>
          <a:prstGeom prst="line">
            <a:avLst/>
          </a:prstGeom>
          <a:ln w="38160">
            <a:solidFill>
              <a:srgbClr val="005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292120"/>
            <a:ext cx="72770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Creative Problem Solving 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pic>
        <p:nvPicPr>
          <p:cNvPr id="160" name="Picture 8" descr="HH02541_[1]"/>
          <p:cNvPicPr/>
          <p:nvPr/>
        </p:nvPicPr>
        <p:blipFill>
          <a:blip r:embed="rId1"/>
          <a:stretch/>
        </p:blipFill>
        <p:spPr>
          <a:xfrm>
            <a:off x="493560" y="3174840"/>
            <a:ext cx="1470240" cy="104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HH02541_[1]"/>
          <p:cNvPicPr/>
          <p:nvPr/>
        </p:nvPicPr>
        <p:blipFill>
          <a:blip r:embed="rId2"/>
          <a:stretch/>
        </p:blipFill>
        <p:spPr>
          <a:xfrm>
            <a:off x="146376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HH02541_[1]"/>
          <p:cNvPicPr/>
          <p:nvPr/>
        </p:nvPicPr>
        <p:blipFill>
          <a:blip r:embed="rId3"/>
          <a:stretch/>
        </p:blipFill>
        <p:spPr>
          <a:xfrm>
            <a:off x="286560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HH02541_[1]"/>
          <p:cNvPicPr/>
          <p:nvPr/>
        </p:nvPicPr>
        <p:blipFill>
          <a:blip r:embed="rId4"/>
          <a:stretch/>
        </p:blipFill>
        <p:spPr>
          <a:xfrm>
            <a:off x="4683240" y="466236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HH02541_[1]"/>
          <p:cNvPicPr/>
          <p:nvPr/>
        </p:nvPicPr>
        <p:blipFill>
          <a:blip r:embed="rId5"/>
          <a:stretch/>
        </p:blipFill>
        <p:spPr>
          <a:xfrm>
            <a:off x="5661000" y="539100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HH02541_[1]"/>
          <p:cNvPicPr/>
          <p:nvPr/>
        </p:nvPicPr>
        <p:blipFill>
          <a:blip r:embed="rId6"/>
          <a:stretch/>
        </p:blipFill>
        <p:spPr>
          <a:xfrm>
            <a:off x="6659640" y="392904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Traditional” CP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2692080"/>
            <a:ext cx="7202520" cy="266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Mess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ata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Problem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Idea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olution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cceptance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Common idea-finding method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692080"/>
            <a:ext cx="7202520" cy="266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rainstorm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Mind Map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ree associa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reewrit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Incuba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Six hats &amp; problem solv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170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 more deliberate process than CP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Like CPS, uses creativity (green hat)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Unlike CPS, provides a mechanism for evaluating ideas &amp; making decis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-36720"/>
            <a:ext cx="72770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d2d"/>
                </a:solidFill>
                <a:latin typeface="Times New Roman"/>
              </a:rPr>
              <a:t>Hypothetical problem solving program using the hats - 1</a:t>
            </a:r>
            <a:endParaRPr b="1" lang="en-US" sz="36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202520" cy="34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rganize the proces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d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Emotional issues &amp; feeling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it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What do we know, need to know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Proposals &amp; suggestions; what ifs, why not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7202520" cy="34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Focus on the areas that need new idea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Green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Generate new ideas &amp; concept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rganize ideas &amp; process for evaluation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ite, yellow &amp; green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Constructive thinking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536840" y="-36720"/>
            <a:ext cx="72770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d2d"/>
                </a:solidFill>
                <a:latin typeface="Times New Roman"/>
              </a:rPr>
              <a:t>Hypothetical problem solving program using the hats - 2</a:t>
            </a:r>
            <a:endParaRPr b="1" lang="en-US" sz="3600" spc="-1" strike="noStrike">
              <a:solidFill>
                <a:srgbClr val="005d2d"/>
              </a:solidFill>
              <a:latin typeface="Times New Roman"/>
            </a:endParaRPr>
          </a:p>
        </p:txBody>
      </p:sp>
    </p:spTree>
  </p:cSld>
  <p:transition spd="med" advTm="12000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7202520" cy="41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Positive assessment of viable alternative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ack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Screening for impossible, unusable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Challenge the alternative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 &amp; green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vercome objections, correct faults, remove weaknesses, solve problem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ack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Further scrutiny; point out risks, danger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536840" y="-36720"/>
            <a:ext cx="72770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d2d"/>
                </a:solidFill>
                <a:latin typeface="Times New Roman"/>
              </a:rPr>
              <a:t>Hypothetical problem solving program using the hats - 3</a:t>
            </a:r>
            <a:endParaRPr b="1" lang="en-US" sz="3600" spc="-1" strike="noStrike">
              <a:solidFill>
                <a:srgbClr val="005d2d"/>
              </a:solidFill>
              <a:latin typeface="Times New Roman"/>
            </a:endParaRPr>
          </a:p>
        </p:txBody>
      </p:sp>
    </p:spTree>
  </p:cSld>
  <p:transition spd="med" advTm="12000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7202520" cy="38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verview of achievements so far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rganize choice of route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d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Express feelings about the choice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 &amp; black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Looking for the best alternative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Strategy for implementation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536840" y="-36720"/>
            <a:ext cx="72770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d2d"/>
                </a:solidFill>
                <a:latin typeface="Times New Roman"/>
              </a:rPr>
              <a:t>Hypothetical problem solving program using the hats - 4</a:t>
            </a:r>
            <a:endParaRPr b="1" lang="en-US" sz="3600" spc="-1" strike="noStrike">
              <a:solidFill>
                <a:srgbClr val="005d2d"/>
              </a:solidFill>
              <a:latin typeface="Times New Roman"/>
            </a:endParaRPr>
          </a:p>
        </p:txBody>
      </p:sp>
    </p:spTree>
  </p:cSld>
  <p:transition spd="med" advTm="1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What is parallel thinking?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727280"/>
            <a:ext cx="720252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t any moment </a:t>
            </a:r>
            <a:br>
              <a:rPr sz="2400"/>
            </a:b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everyone is looking in the same direction.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01" name="Picture 4" descr="HH02541_[1]"/>
          <p:cNvPicPr/>
          <p:nvPr/>
        </p:nvPicPr>
        <p:blipFill>
          <a:blip r:embed="rId1"/>
          <a:stretch/>
        </p:blipFill>
        <p:spPr>
          <a:xfrm>
            <a:off x="493560" y="3174840"/>
            <a:ext cx="1470240" cy="1047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HH02541_[1]"/>
          <p:cNvPicPr/>
          <p:nvPr/>
        </p:nvPicPr>
        <p:blipFill>
          <a:blip r:embed="rId2"/>
          <a:stretch/>
        </p:blipFill>
        <p:spPr>
          <a:xfrm>
            <a:off x="146376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H02541_[1]"/>
          <p:cNvPicPr/>
          <p:nvPr/>
        </p:nvPicPr>
        <p:blipFill>
          <a:blip r:embed="rId3"/>
          <a:stretch/>
        </p:blipFill>
        <p:spPr>
          <a:xfrm>
            <a:off x="286560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H02541_[1]"/>
          <p:cNvPicPr/>
          <p:nvPr/>
        </p:nvPicPr>
        <p:blipFill>
          <a:blip r:embed="rId4"/>
          <a:stretch/>
        </p:blipFill>
        <p:spPr>
          <a:xfrm>
            <a:off x="4683240" y="466236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H02541_[1]"/>
          <p:cNvPicPr/>
          <p:nvPr/>
        </p:nvPicPr>
        <p:blipFill>
          <a:blip r:embed="rId5"/>
          <a:stretch/>
        </p:blipFill>
        <p:spPr>
          <a:xfrm>
            <a:off x="5661000" y="539100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H02541_[1]"/>
          <p:cNvPicPr/>
          <p:nvPr/>
        </p:nvPicPr>
        <p:blipFill>
          <a:blip r:embed="rId6"/>
          <a:stretch/>
        </p:blipFill>
        <p:spPr>
          <a:xfrm>
            <a:off x="6659640" y="392904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lus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So the six hats are…?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ix colors of hats for six types of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Each hat identifies a type of thinking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Hats are directions of thinking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Hats help a group use parallel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You can “put on” and “take off” a hat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Uses for Six Hat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692080"/>
            <a:ext cx="7202520" cy="178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Problem solving 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trategic plann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unning meeting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Much mor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Six colors…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66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ite: neutral, objecti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d: emotional, angry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ack: serious, somber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: sunny, positi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Green: growth, fertility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: cool, sky abo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cover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and six hat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66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ite: objective facts &amp; figure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d: emotions &amp; feeling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ack: cautious &amp; carefu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: hope, positive &amp; speculati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Green: creativity, ideas &amp; lateral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: control &amp; organization of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cover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General hat issue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72760"/>
            <a:ext cx="7202520" cy="42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irection, not descrip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Set out to think in a certain direction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Let’s have some black hat thinking…”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ot categories of peopl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Not: “He’s a black hat thinker.”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Everyone can and should use all the hat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 constructive form of showing off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Show off by being a better thinker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Not destructive right vs. wrong argument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Use in whole or in par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Benefits of Six Thinking Hats</a:t>
            </a: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27280"/>
            <a:ext cx="72025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Provides a common languag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Experience &amp; intelligence of each person (Diversity of thought)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Use more of our brai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Helps people work against type, preferenc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moval of ego (reduce confrontation)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ave tim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ocus (one thing at a time)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reate, evaluate &amp; implement action pla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 spd="med" advTm="12000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21:31:07Z</dcterms:created>
  <dc:creator/>
  <dc:description/>
  <dc:language>en-US</dc:language>
  <cp:lastModifiedBy>Bright</cp:lastModifiedBy>
  <dcterms:modified xsi:type="dcterms:W3CDTF">2013-08-23T07:55:03Z</dcterms:modified>
  <cp:revision>178</cp:revision>
  <dc:subject/>
  <dc:title>Six Thinking Hats</dc:title>
</cp:coreProperties>
</file>